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06C-BB25-4E20-BA87-44C20A3C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208-7D1D-4092-997E-4F53BE9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EA6-B602-4ED1-BD98-8B20DFA4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55BA-9391-4C3E-A174-612521AE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B8B0-AB9F-40BA-B0F0-BC19547E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DE3B-CAB7-4D23-82C7-E43058B6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3DD6-AD98-4145-91FE-75AEF17B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77E0-4B4F-4F8F-B45C-29090582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F823-2821-4F7E-A61C-73D55F2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AA68-5AE2-4D42-AC3E-D0199CA3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4134-5375-4D2E-B40A-0E1FDC55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1C5-1B87-4027-8332-61445036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D497-E7E5-4812-B57C-80023B47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01E6-1B7A-4041-8E19-7EF1AE88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AC92-12BF-46C1-8136-15C91B59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279-E211-442E-B57D-5A120E50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C1A6-978A-49E6-810A-E09B1CDF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E50-C84D-4622-A16D-02EF9390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A14-CB4C-4C68-A788-3D99DB4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360-AFF3-4063-AA49-9FBD9B79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DEF-85AE-4279-96B5-A1EF4E90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065-71A9-42AF-B43F-18DD79D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21D-417F-4A92-8EE5-663CADB3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5EBC-0E7D-4C94-83E4-514472C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A76A-1843-48B1-BC1F-D7E8F9EAB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5F4E-7FD1-4E13-B435-21F505AA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cro.magnet.fsu.edu/primer/java/scienceopticsu/powersof10/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nimal Phyl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be differentiating between several phyla based upon symmetry.  There are three kinds of body organization symmetry you mus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what is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ll be differentiating between several phyla based upon symmetry.  There are three kinds of body organization symmetry you must k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what is symmetry?  Generally, a symmetric shape is a shape that still looks the same if you fold or rotat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each definition, then, mold your play-doh into an organism that models that kind of symm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ith me that you’re correct, then draw what you’ve mae next to the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ymmetric:  Irregular.  Is not symme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symmetric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work with me, then draw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lateral Symmetry:  The organism can be divided into mirror-image ha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dial Symmetry:  Cutting/folding down several planes would produce identical pieces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ly symmetric organisms don’t have a lateral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ymmetry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life examples of the three kind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teral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sym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e: No organism is 100% perfectly symmetric, there are always “imperfections.”  These describe the general body pla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phyla are also divided by the type of skeleton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definitions.  Then, together, see if you can think of an animal that uses this kind of skeleton.  Mold your clay in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drostatic Skeleton:  The organism does not have a “true” skeleton, it uses a fluid-filled cavity and fluid environment to maintain it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oskeleton:  The animal’s body is supported and its shape maintained by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ke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keleton Typ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oskeleton:  The animal’s body is supported and its shape maintained by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skele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omework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vels of Organiz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basic level of organization is a cell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ell is the smallest self-contained unit that fulfills all the characteristics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are made of more than one cell.  However, they vary in the complexity of how those cells work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vels of Organiz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ssu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a group of cells that work together to carry out a specif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a group of tissues that work together to carry out a gener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 syst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s a group of organs that work together to carry out a major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sms may have organ systems, others may be simpler, some may not even have t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http://micro.magnet.fsu.edu/primer/java/scienceopticsu/powersof10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egment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you’ll need to know what segmenta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gmentation is the division of a body plan into a series of semi-repetitive seg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mold your play-doh into a body plan showing seg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Major Phyl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use laptops to research the 9 major animal phyla:  Porifera, Cnidaria, Platyhelminthes, Nematoda, Annelida, Mollusca, Arthropoda, Echinodermata, Chor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going to fill out a table with many differences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 will not have to memorize this whole tab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ut you will need to be able to distinguish between phyla based upon the categories we learned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also illustrate an example organism for each group, and will create a phylogenetic tree for the animal kingdom.  Pay attention to the evolution of these phyla and their features.  Lastly, you will create a dichotomous key for the phy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der of the week, the objective i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different types of body location/axis, skeleton types, symmetry, and levels of orga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segmenta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9 major phyla in the animal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able, please take a lump of play-doh.  Also keep your notebook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pick an animal that you’re both familiar with, and mold the play-doh into that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in your notebook, illustrate the ani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/Axi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alking about the organization of animal bodies, we have words to describe the different “ends” of the body.  You need to know these 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down the definitions, and label the illustration with the location or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erior-Posterior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erior: The end of the body in the direction of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terior: The end of the body opposite of the an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rsal-Ventral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rsal:  The side of the body housing the s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ral: The side of the body opposite the dors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teral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teral: The left or right side of the bod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right side is termed right-lateral, the left side is termed left-lateral.  These are the sides for the organism, not the observer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Body Loca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ant you to quiz every other table on these locations/axes, by doing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another pair, and indicate to them a location on your play-doh animal (or you may use a location on a human if you wa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pair must correctly tell you whether that location is closer to the anterior vs posterior, dorsal vs ventral, and left vs right lateral side of the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get it wrong, move on to another pair but come back to them later with a new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21:16:14Z</dcterms:created>
  <dc:creator>Rebecca Stang</dc:creator>
  <dc:description/>
  <dc:language>en-US</dc:language>
  <cp:lastModifiedBy>Rebecca Stang</cp:lastModifiedBy>
  <dcterms:modified xsi:type="dcterms:W3CDTF">2009-03-15T21:51:26Z</dcterms:modified>
  <cp:revision>11</cp:revision>
  <dc:subject/>
  <dc:title>Animal Phyla</dc:title>
</cp:coreProperties>
</file>